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1.wmf" ContentType="image/x-wmf"/>
  <Override PartName="/ppt/media/image31.wmf" ContentType="image/x-wmf"/>
  <Override PartName="/ppt/media/image26.wmf" ContentType="image/x-wmf"/>
  <Override PartName="/ppt/media/image4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5.jpeg" ContentType="image/jpeg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.jpeg" ContentType="image/jpeg"/>
  <Override PartName="/ppt/media/image15.png" ContentType="image/png"/>
  <Override PartName="/ppt/media/image29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77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145040" y="-360"/>
            <a:ext cx="3170160" cy="477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2400" cy="36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123120"/>
            <a:ext cx="3170160" cy="477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145040" y="9123120"/>
            <a:ext cx="3170160" cy="477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900A42B0-9294-480C-BF71-F8A3C288B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2400" cy="36021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modes, Joe M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FF4-4630-4699-89EB-5025A3FC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864252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32920" y="3774240"/>
            <a:ext cx="864252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E68-E347-45A8-9C90-6DEB43F8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14300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2920" y="377424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377424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953-4E4E-4877-854A-F8B7DA9D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27828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400" y="1143000"/>
            <a:ext cx="27828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7520" y="1143000"/>
            <a:ext cx="27828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32920" y="3774240"/>
            <a:ext cx="27828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400" y="3774240"/>
            <a:ext cx="27828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7520" y="3774240"/>
            <a:ext cx="27828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F20-6F2F-496F-9C44-AF10FEC6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8681-595A-4851-8614-6DD0E8DF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32920" y="1143000"/>
            <a:ext cx="864252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9187-0CB5-4CFD-931D-2FB7F351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864252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D584-0DB7-4A53-BD7A-91EFA32D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42174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640" y="1143000"/>
            <a:ext cx="42174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87A3-0736-4B2A-B8ED-801052B0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ADB1-7916-4A3C-9775-1275A027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06480" y="75960"/>
            <a:ext cx="706464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77F1-751B-4255-AD3F-2294D578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1640" y="1143000"/>
            <a:ext cx="42174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32920" y="377424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EB9E-4AC1-49FE-83C7-171E0354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32920" y="1143000"/>
            <a:ext cx="864252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412-CE4F-4949-9A84-F9FF9DDE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42174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1640" y="114300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1640" y="377424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2266-62E5-4DF6-9CFE-C8C1D78E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640" y="114300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2920" y="3774240"/>
            <a:ext cx="864252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FCAE-39F7-43AF-BD88-3C3F230E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864252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32920" y="3774240"/>
            <a:ext cx="864252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4B42-5264-4204-92F2-54258524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1640" y="114300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32920" y="377424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1640" y="377424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FB9F-DB5F-45C0-BDDE-41342961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27828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55400" y="1143000"/>
            <a:ext cx="27828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7520" y="1143000"/>
            <a:ext cx="27828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32920" y="3774240"/>
            <a:ext cx="27828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55400" y="3774240"/>
            <a:ext cx="27828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7520" y="3774240"/>
            <a:ext cx="27828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5ACB-3BA5-44D0-875B-A11B1AB1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864252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D4A-8664-4E14-AC5B-0E2E0D56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42174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143000"/>
            <a:ext cx="42174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D0E-EF73-40FA-A709-9884315F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E4D-FA8C-4366-AF01-0489BA45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06480" y="75960"/>
            <a:ext cx="706464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8C3-0D89-4CE7-B5B8-D0166AB4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143000"/>
            <a:ext cx="42174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32920" y="377424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2D8-277D-469D-8CB6-94B14B4D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42174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14300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377424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591-292A-4C9C-8064-2931C44C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143000"/>
            <a:ext cx="42174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32920" y="3774240"/>
            <a:ext cx="864252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E66-DDBE-4465-9642-E266FD02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32920" y="1143000"/>
            <a:ext cx="864252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89440" y="6377040"/>
            <a:ext cx="1292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213F-8BA4-4565-8DDC-CC1CC9F5265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301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376080" y="6357960"/>
            <a:ext cx="304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Official Use Only – Goodyear C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463800" y="6361200"/>
            <a:ext cx="136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9B5C-23B0-493E-BF55-87912C9FE16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853560" y="342720"/>
            <a:ext cx="76964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17880" y="2452680"/>
            <a:ext cx="5662440" cy="77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1301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6200" y="342720"/>
            <a:ext cx="7813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itz Method and Experimental Modal Analysis:  CMS, CBR, AM, FIM, MLM and other acronym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27000" y="2556000"/>
            <a:ext cx="72597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Matt All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August 24, 200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Sandia National Laboratori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Unclassified, Unlimited Rele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67040" y="6311880"/>
            <a:ext cx="5224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ndia is a multiprogram laboratory operated by Sandia Corporation, a Lockheed Martin Company,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the United States Department of Energy’s National Nuclear Security Administration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under contract DE-AC04-94AL85000.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2954160"/>
            <a:ext cx="260208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253200" y="3760920"/>
            <a:ext cx="272556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940120" y="4199040"/>
            <a:ext cx="3184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ructural Modification:  Exampl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864252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eel fixture (4.6”x1”x1” bar), treated as a mass and inertia added to the end of a 1”x0.75”x12” steel beam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mulated in Salinas using 40 beam elemen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ight of Beam:  2.5 l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ight of Fixture: 1.3 l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itzsmod.m” used (via “ritzsmod_test_script_FE.m”) used to remove mass and inerti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773360" y="2193840"/>
            <a:ext cx="5231880" cy="577800"/>
            <a:chOff x="1773360" y="2193840"/>
            <a:chExt cx="5231880" cy="577800"/>
          </a:xfrm>
        </p:grpSpPr>
        <p:sp>
          <p:nvSpPr>
            <p:cNvPr id="165" name=""/>
            <p:cNvSpPr/>
            <p:nvPr/>
          </p:nvSpPr>
          <p:spPr>
            <a:xfrm>
              <a:off x="1773360" y="2388960"/>
              <a:ext cx="1277640" cy="18756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904120" y="2357280"/>
              <a:ext cx="533520" cy="2473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3944160" y="2373120"/>
              <a:ext cx="533520" cy="2473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57280" y="2193840"/>
              <a:ext cx="86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0000" y="2251080"/>
              <a:ext cx="8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27600" y="2438280"/>
              <a:ext cx="1277640" cy="187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077920" y="231156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31080" y="23605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F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E68-EDC7-43C0-8DF5-E571CFFDC0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uctural Modification:  Example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17520" y="2997360"/>
            <a:ext cx="4044960" cy="36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atural Frequencies and Mode Shapes from full (40 node) FE model compared with those estimated by “ritzsmod” using 6 modes (all modes below 6400 Hz)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rrors in all but the 6</a:t>
            </a:r>
            <a:r>
              <a:rPr b="0" lang="en-US" sz="2000" spc="-1" strike="noStrike" baseline="30000">
                <a:solidFill>
                  <a:srgbClr val="003366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(last) mode are tiny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ode shapes are dead 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nsitivity estimate of natural frequencies has large errors (30%) because the mass addition is not smal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1360" y="919080"/>
            <a:ext cx="8724960" cy="1778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2444" t="0" r="4006" b="2556"/>
          <a:stretch/>
        </p:blipFill>
        <p:spPr>
          <a:xfrm>
            <a:off x="4356000" y="2789280"/>
            <a:ext cx="4788000" cy="40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577-405A-478E-B722-B22A3D0DE0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Joining Structures: Ritz Method (1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32920" y="880920"/>
            <a:ext cx="864252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ider the EOM for two independent structures, in the form we had previously for mass modifica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e connect them by enforcing some constraint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liminate some modal DOF using constraint equation to find unconstrained EOM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63480" y="4483080"/>
            <a:ext cx="8070840" cy="693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28480" y="3125880"/>
            <a:ext cx="8296560" cy="7747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1763640" y="2416320"/>
            <a:ext cx="5702400" cy="520560"/>
            <a:chOff x="1763640" y="2416320"/>
            <a:chExt cx="5702400" cy="520560"/>
          </a:xfrm>
        </p:grpSpPr>
        <p:sp>
          <p:nvSpPr>
            <p:cNvPr id="182" name=""/>
            <p:cNvSpPr/>
            <p:nvPr/>
          </p:nvSpPr>
          <p:spPr>
            <a:xfrm>
              <a:off x="3424320" y="241632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1763640" y="2514600"/>
              <a:ext cx="1278000" cy="337320"/>
              <a:chOff x="1763640" y="2514600"/>
              <a:chExt cx="1278000" cy="337320"/>
            </a:xfrm>
          </p:grpSpPr>
          <p:sp>
            <p:nvSpPr>
              <p:cNvPr id="184" name=""/>
              <p:cNvSpPr/>
              <p:nvPr/>
            </p:nvSpPr>
            <p:spPr>
              <a:xfrm>
                <a:off x="1763640" y="2600280"/>
                <a:ext cx="1278000" cy="187200"/>
              </a:xfrm>
              <a:prstGeom prst="rect">
                <a:avLst/>
              </a:prstGeom>
              <a:solidFill>
                <a:srgbClr val="cc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117880" y="2514600"/>
                <a:ext cx="59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673520" y="2514600"/>
              <a:ext cx="2792520" cy="337320"/>
              <a:chOff x="4673520" y="2514600"/>
              <a:chExt cx="2792520" cy="337320"/>
            </a:xfrm>
          </p:grpSpPr>
          <p:sp>
            <p:nvSpPr>
              <p:cNvPr id="187" name=""/>
              <p:cNvSpPr/>
              <p:nvPr/>
            </p:nvSpPr>
            <p:spPr>
              <a:xfrm>
                <a:off x="4673520" y="2594160"/>
                <a:ext cx="2792520" cy="187200"/>
              </a:xfrm>
              <a:prstGeom prst="rect">
                <a:avLst/>
              </a:prstGeom>
              <a:solidFill>
                <a:srgbClr val="cc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42080" y="2514600"/>
                <a:ext cx="59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3030480" y="2649600"/>
              <a:ext cx="88920" cy="889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87840" y="2647800"/>
              <a:ext cx="88920" cy="889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09880" y="2455920"/>
              <a:ext cx="70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45040" y="2448000"/>
              <a:ext cx="70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495440" y="6157800"/>
            <a:ext cx="5027760" cy="45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313-FDD0-4C9F-A279-F1FAEA43C6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Joining Structures: Ritz Method (2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32920" y="1142640"/>
            <a:ext cx="86425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ll of this can be easily implemented in a func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itzscomb.m” on the 860Modal page does just thi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5276" t="64321" r="32629" b="8957"/>
          <a:stretch/>
        </p:blipFill>
        <p:spPr>
          <a:xfrm>
            <a:off x="4748040" y="2538360"/>
            <a:ext cx="4395960" cy="2148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5276" t="9383" r="30381" b="35242"/>
          <a:stretch/>
        </p:blipFill>
        <p:spPr>
          <a:xfrm>
            <a:off x="162000" y="2513160"/>
            <a:ext cx="4448160" cy="434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D27-9AD6-44A3-ACA4-27B9575C8A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677000" y="6211800"/>
            <a:ext cx="146700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Joining Structures: Example Proble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864252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itz Method used to combine models for 12” and 24” beams using modes for each substructure up to 6400 Hz 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se 1:  Free-Free (FF) modes – modal parameters of each FF beam used to predict combined system respons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se 2:  Mass-Loaded (ML) modes – parameters of modes with 4.6in end blocks used for each beam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14280" y="5575320"/>
            <a:ext cx="7234560" cy="569880"/>
            <a:chOff x="1214280" y="5575320"/>
            <a:chExt cx="7234560" cy="569880"/>
          </a:xfrm>
        </p:grpSpPr>
        <p:sp>
          <p:nvSpPr>
            <p:cNvPr id="202" name=""/>
            <p:cNvSpPr/>
            <p:nvPr/>
          </p:nvSpPr>
          <p:spPr>
            <a:xfrm>
              <a:off x="1214280" y="5786280"/>
              <a:ext cx="1278000" cy="18756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65480" y="5786280"/>
              <a:ext cx="2792520" cy="18756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2346120" y="5754600"/>
              <a:ext cx="533520" cy="247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3673440" y="5754600"/>
              <a:ext cx="533520" cy="247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7161120" y="5736960"/>
              <a:ext cx="533160" cy="247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59640" y="557532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44880" y="5618160"/>
              <a:ext cx="49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61160" y="5580000"/>
              <a:ext cx="78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Times New Roman"/>
                </a:rPr>
                <a:t>X 2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11400" y="3976560"/>
            <a:ext cx="5701680" cy="520560"/>
            <a:chOff x="1211400" y="3976560"/>
            <a:chExt cx="5701680" cy="520560"/>
          </a:xfrm>
        </p:grpSpPr>
        <p:sp>
          <p:nvSpPr>
            <p:cNvPr id="211" name=""/>
            <p:cNvSpPr/>
            <p:nvPr/>
          </p:nvSpPr>
          <p:spPr>
            <a:xfrm>
              <a:off x="2871720" y="3976560"/>
              <a:ext cx="86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211400" y="4074840"/>
              <a:ext cx="1277640" cy="337320"/>
              <a:chOff x="1211400" y="4074840"/>
              <a:chExt cx="1277640" cy="337320"/>
            </a:xfrm>
          </p:grpSpPr>
          <p:sp>
            <p:nvSpPr>
              <p:cNvPr id="213" name=""/>
              <p:cNvSpPr/>
              <p:nvPr/>
            </p:nvSpPr>
            <p:spPr>
              <a:xfrm>
                <a:off x="1211400" y="4160520"/>
                <a:ext cx="1277640" cy="187200"/>
              </a:xfrm>
              <a:prstGeom prst="rect">
                <a:avLst/>
              </a:prstGeom>
              <a:solidFill>
                <a:srgbClr val="cc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65280" y="4074840"/>
                <a:ext cx="59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120920" y="4074840"/>
              <a:ext cx="2792160" cy="337320"/>
              <a:chOff x="4120920" y="4074840"/>
              <a:chExt cx="2792160" cy="337320"/>
            </a:xfrm>
          </p:grpSpPr>
          <p:sp>
            <p:nvSpPr>
              <p:cNvPr id="216" name=""/>
              <p:cNvSpPr/>
              <p:nvPr/>
            </p:nvSpPr>
            <p:spPr>
              <a:xfrm>
                <a:off x="4120920" y="4154400"/>
                <a:ext cx="2792160" cy="187200"/>
              </a:xfrm>
              <a:prstGeom prst="rect">
                <a:avLst/>
              </a:prstGeom>
              <a:solidFill>
                <a:srgbClr val="cc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89120" y="4074840"/>
                <a:ext cx="59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477880" y="4209840"/>
              <a:ext cx="88560" cy="889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35240" y="4208040"/>
              <a:ext cx="88560" cy="889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57280" y="4016160"/>
              <a:ext cx="701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92440" y="4008240"/>
              <a:ext cx="701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827-250E-46EB-A119-98AB998941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tho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864252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alinas models of 12” and 24” beams created with and without end block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ach beam meshed with 0.3 inch long elemen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olution of 12” and 24” beams joined was also foun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modal model for the case of Mass-Loaded modes was corrected using the “ritzsmod” script in order to remove the effects of the end masses.  The modified modal models were then combined to form the 36-in beam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884-ABEA-4725-AA71-00F6E53D7A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orrecting for End Mass and Inerti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32920" y="3327480"/>
            <a:ext cx="864252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hart compares Mass-Loaded natural frequencies with those obtained after analytically subtracting off the mass using “ritzsmod.m” with the Free-Free natural frequencies for systems A and B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natural frequencies predicted match the FF natural frequencies remarkably well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23920" y="1116000"/>
            <a:ext cx="866124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A67-3F99-4818-B0A6-A1980FB759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atural Frequencies for 36-in B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4360" y="4073400"/>
            <a:ext cx="846144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able shows natural frequencies of 36-in beam (1) predicted by FEA, (2) predicted using the Free-Free modes of the 12” and 24” beams and (3) predicted using Mass-Loaded modes of the 12” and 24” beam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ree-Free modes have errors ranging from 0% to 15%, while the Mass-Loaded modes show errors less than 1%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rror in natural frequency is largest for modes (of 36-in beam) that have large shear (derivative of rotation) at the connection point. (see mode shapes on next slid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30480" y="1085760"/>
            <a:ext cx="6689520" cy="279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BFA-792C-4C1A-8F6D-E1069393F3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rcRect l="2578" t="2478" r="5187" b="3666"/>
          <a:stretch/>
        </p:blipFill>
        <p:spPr>
          <a:xfrm>
            <a:off x="0" y="600120"/>
            <a:ext cx="5332320" cy="62578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de Shapes (3-5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261040" y="1142640"/>
            <a:ext cx="369864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ss loaded mode vectors match the analytical mode vectors more closely, especially the rotation component at the connec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te:  shear and moment in beam proportional to d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/dx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and d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/dx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ree-Free modes all have zero shear and moment forces at the free end, so they cannot represent the combined structure well near the connec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46160" y="1206360"/>
            <a:ext cx="0" cy="516276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9200" y="3753000"/>
            <a:ext cx="1333440" cy="187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51200" y="3753000"/>
            <a:ext cx="2744640" cy="187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5400" y="368136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eam 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90640" y="369108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eam B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F1B-1AED-4F4B-95B0-2123E28AA9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864252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set of modal parameters defines a set of equations of motion for a structure that can be used in much the same way that an FE or lumped parameter model would b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odels can be joined or modified easily using canned program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 example illustrated that the Ritz method was much more accurate than sensitivity based methods for a free-free beam when the modification was substantia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results obtained are best understood using Ritz theor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ample illustrated that mass loaded modes gave much more accurate predictions of combined system modes than free-free mod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9A7-9ACB-4002-A256-697B149E57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864252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troduction to Ritz Metho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uctural Modific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or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ructural Modification using M.P. Sensitiv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ub-structur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bbreviated Theor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C10-3939-419E-B795-88CBB02F7F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864252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mpare this method with the FRF-based admittance approach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vestigate the sensitivity of these methods to measurement error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ok at what happens when more complicated, multi-point connections are use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397-4CE8-4906-9AB0-93D47C4E2F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de Shapes (6-7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229000" y="1143000"/>
            <a:ext cx="364644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ore mode shapes for the 36” beam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2167" t="3337" r="5878" b="4640"/>
          <a:stretch/>
        </p:blipFill>
        <p:spPr>
          <a:xfrm>
            <a:off x="0" y="996840"/>
            <a:ext cx="4622760" cy="58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C62-7567-4974-B548-EAB2D44615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31176" b="0"/>
          <a:stretch/>
        </p:blipFill>
        <p:spPr>
          <a:xfrm>
            <a:off x="1593720" y="3413160"/>
            <a:ext cx="2784600" cy="698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113520" y="1846440"/>
            <a:ext cx="2792520" cy="10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6000" y="1752480"/>
            <a:ext cx="1663560" cy="282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Ritz Metho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32920" y="1142640"/>
            <a:ext cx="561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 Ritz method is an approximate method for solving Partial Differential Equation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roximate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w(x,t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with a set of basis functions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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 PDE becomes an O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s is also known as the “Method of Assumed Modes,” “Raleigh-Ritz Method,” etc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nite Element Method can be viewed as a special cas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808600" y="1246320"/>
            <a:ext cx="7920" cy="52956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53040" y="1955880"/>
            <a:ext cx="119160" cy="127080"/>
          </a:xfrm>
          <a:prstGeom prst="triangle">
            <a:avLst>
              <a:gd name="adj" fmla="val 50000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39080" y="1951200"/>
            <a:ext cx="119160" cy="126720"/>
          </a:xfrm>
          <a:prstGeom prst="triangle">
            <a:avLst>
              <a:gd name="adj" fmla="val 50000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108840" y="1246320"/>
            <a:ext cx="2790720" cy="1139760"/>
            <a:chOff x="6108840" y="1246320"/>
            <a:chExt cx="2790720" cy="1139760"/>
          </a:xfrm>
        </p:grpSpPr>
        <p:sp>
          <p:nvSpPr>
            <p:cNvPr id="111" name=""/>
            <p:cNvSpPr/>
            <p:nvPr/>
          </p:nvSpPr>
          <p:spPr>
            <a:xfrm>
              <a:off x="6108840" y="1405080"/>
              <a:ext cx="2790720" cy="495000"/>
            </a:xfrm>
            <a:custGeom>
              <a:avLst/>
              <a:gdLst/>
              <a:ahLst/>
              <a:rect l="l" t="t" r="r" b="b"/>
              <a:pathLst>
                <a:path w="1758" h="312">
                  <a:moveTo>
                    <a:pt x="0" y="312"/>
                  </a:moveTo>
                  <a:cubicBezTo>
                    <a:pt x="303" y="156"/>
                    <a:pt x="606" y="0"/>
                    <a:pt x="899" y="0"/>
                  </a:cubicBezTo>
                  <a:cubicBezTo>
                    <a:pt x="1192" y="0"/>
                    <a:pt x="1617" y="260"/>
                    <a:pt x="1758" y="312"/>
                  </a:cubicBezTo>
                </a:path>
              </a:pathLst>
            </a:custGeom>
            <a:noFill/>
            <a:ln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16760" y="1395360"/>
              <a:ext cx="2774880" cy="990720"/>
            </a:xfrm>
            <a:custGeom>
              <a:avLst/>
              <a:gdLst/>
              <a:ahLst/>
              <a:rect l="l" t="t" r="r" b="b"/>
              <a:pathLst>
                <a:path w="1748" h="624">
                  <a:moveTo>
                    <a:pt x="0" y="318"/>
                  </a:moveTo>
                  <a:cubicBezTo>
                    <a:pt x="134" y="159"/>
                    <a:pt x="268" y="0"/>
                    <a:pt x="432" y="11"/>
                  </a:cubicBezTo>
                  <a:cubicBezTo>
                    <a:pt x="596" y="22"/>
                    <a:pt x="809" y="283"/>
                    <a:pt x="983" y="383"/>
                  </a:cubicBezTo>
                  <a:cubicBezTo>
                    <a:pt x="1157" y="483"/>
                    <a:pt x="1348" y="624"/>
                    <a:pt x="1475" y="611"/>
                  </a:cubicBezTo>
                  <a:cubicBezTo>
                    <a:pt x="1602" y="598"/>
                    <a:pt x="1704" y="352"/>
                    <a:pt x="1748" y="303"/>
                  </a:cubicBezTo>
                </a:path>
              </a:pathLst>
            </a:custGeom>
            <a:noFill/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96160" y="1246320"/>
              <a:ext cx="930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</a:t>
              </a:r>
              <a:r>
                <a:rPr b="1" lang="en-US" sz="1400" spc="-1" strike="noStrike" baseline="-25000">
                  <a:solidFill>
                    <a:srgbClr val="0033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(x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84880" y="2028960"/>
              <a:ext cx="930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</a:t>
              </a:r>
              <a:r>
                <a:rPr b="1" lang="en-US" sz="1400" spc="-1" strike="noStrike" baseline="-25000">
                  <a:solidFill>
                    <a:srgbClr val="8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800000"/>
                  </a:solidFill>
                  <a:latin typeface="Times New Roman"/>
                </a:rPr>
                <a:t>(x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919840" y="358632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[K] and [M] are 2 by 2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rcRect l="0" t="0" r="40259" b="-6337"/>
          <a:stretch/>
        </p:blipFill>
        <p:spPr>
          <a:xfrm>
            <a:off x="6039000" y="4303800"/>
            <a:ext cx="3012840" cy="95544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5981760" y="1062000"/>
            <a:ext cx="2951280" cy="844560"/>
            <a:chOff x="5981760" y="1062000"/>
            <a:chExt cx="2951280" cy="844560"/>
          </a:xfrm>
        </p:grpSpPr>
        <p:grpSp>
          <p:nvGrpSpPr>
            <p:cNvPr id="118" name=""/>
            <p:cNvGrpSpPr/>
            <p:nvPr/>
          </p:nvGrpSpPr>
          <p:grpSpPr>
            <a:xfrm>
              <a:off x="6129360" y="1371240"/>
              <a:ext cx="2778120" cy="525240"/>
              <a:chOff x="6129360" y="1371240"/>
              <a:chExt cx="2778120" cy="525240"/>
            </a:xfrm>
          </p:grpSpPr>
          <p:sp>
            <p:nvSpPr>
              <p:cNvPr id="119" name=""/>
              <p:cNvSpPr/>
              <p:nvPr/>
            </p:nvSpPr>
            <p:spPr>
              <a:xfrm flipV="1">
                <a:off x="6129360" y="1371240"/>
                <a:ext cx="297000" cy="5252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6424560" y="1379160"/>
                <a:ext cx="214200" cy="5076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645600" y="1879200"/>
                <a:ext cx="2261880" cy="75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137280" y="1371240"/>
              <a:ext cx="2795760" cy="535320"/>
              <a:chOff x="6137280" y="1371240"/>
              <a:chExt cx="2795760" cy="535320"/>
            </a:xfrm>
          </p:grpSpPr>
          <p:sp>
            <p:nvSpPr>
              <p:cNvPr id="123" name=""/>
              <p:cNvSpPr/>
              <p:nvPr/>
            </p:nvSpPr>
            <p:spPr>
              <a:xfrm>
                <a:off x="6137280" y="1896840"/>
                <a:ext cx="26208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399360" y="1371240"/>
                <a:ext cx="237960" cy="52524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6636960" y="1371600"/>
                <a:ext cx="227160" cy="53496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6865920" y="1887480"/>
                <a:ext cx="2067120" cy="144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6507360" y="1238040"/>
              <a:ext cx="930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cc"/>
                  </a:solidFill>
                  <a:latin typeface="Symbol"/>
                  <a:ea typeface="Symbol"/>
                </a:rPr>
                <a:t></a:t>
              </a:r>
              <a:r>
                <a:rPr b="1" lang="en-US" sz="1400" spc="-1" strike="noStrike" baseline="-25000">
                  <a:solidFill>
                    <a:srgbClr val="ff33cc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33cc"/>
                  </a:solidFill>
                  <a:latin typeface="Times New Roman"/>
                </a:rPr>
                <a:t>(x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81760" y="1062000"/>
              <a:ext cx="930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</a:t>
              </a:r>
              <a:r>
                <a:rPr b="1" lang="en-US" sz="1400" spc="-1" strike="noStrike" baseline="-25000">
                  <a:solidFill>
                    <a:srgbClr val="ff66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6600"/>
                  </a:solidFill>
                  <a:latin typeface="Times New Roman"/>
                </a:rPr>
                <a:t>(x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108840" y="1055520"/>
            <a:ext cx="2774880" cy="844560"/>
            <a:chOff x="6108840" y="1055520"/>
            <a:chExt cx="2774880" cy="844560"/>
          </a:xfrm>
        </p:grpSpPr>
        <p:sp>
          <p:nvSpPr>
            <p:cNvPr id="130" name=""/>
            <p:cNvSpPr/>
            <p:nvPr/>
          </p:nvSpPr>
          <p:spPr>
            <a:xfrm>
              <a:off x="6108840" y="1335240"/>
              <a:ext cx="2774880" cy="564840"/>
            </a:xfrm>
            <a:custGeom>
              <a:avLst/>
              <a:gdLst/>
              <a:ahLst/>
              <a:rect l="l" t="t" r="r" b="b"/>
              <a:pathLst>
                <a:path w="1748" h="356">
                  <a:moveTo>
                    <a:pt x="0" y="356"/>
                  </a:moveTo>
                  <a:cubicBezTo>
                    <a:pt x="164" y="247"/>
                    <a:pt x="329" y="138"/>
                    <a:pt x="477" y="83"/>
                  </a:cubicBezTo>
                  <a:cubicBezTo>
                    <a:pt x="625" y="28"/>
                    <a:pt x="743" y="0"/>
                    <a:pt x="889" y="24"/>
                  </a:cubicBezTo>
                  <a:cubicBezTo>
                    <a:pt x="1035" y="48"/>
                    <a:pt x="1213" y="173"/>
                    <a:pt x="1356" y="227"/>
                  </a:cubicBezTo>
                  <a:cubicBezTo>
                    <a:pt x="1499" y="281"/>
                    <a:pt x="1684" y="328"/>
                    <a:pt x="1748" y="346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57880" y="1055520"/>
              <a:ext cx="54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</a:t>
              </a: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(x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92400" y="2165400"/>
            <a:ext cx="3520800" cy="677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02280" y="5257800"/>
            <a:ext cx="27432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For a detailed discussion of the Ritz method, See: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Times New Roman"/>
              </a:rPr>
              <a:t>Mechanical and Structural Vibrations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, Ginsberg, 2001, Wiley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127160" y="4556160"/>
            <a:ext cx="4186080" cy="231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rcRect l="0" t="0" r="23631" b="2837"/>
          <a:stretch/>
        </p:blipFill>
        <p:spPr>
          <a:xfrm>
            <a:off x="5913360" y="2838600"/>
            <a:ext cx="3095640" cy="34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02B-6D6C-4412-A63A-E5230585BB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roperties of the Ritz Metho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0000" y="1117440"/>
            <a:ext cx="445932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atural Frequencies converge from above (Raleigh Ratio)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xample shows convergence for two cantilever beams joined at their free end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ny set of linearly independent vectors can be used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nite Element Method:  Use local Ritz vectors (piecewise linear, piecewise quadratic, etc…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MS:  Component Mode Synthesi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BR:  Craig-Bampton Redu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ese all seek to reduce the number of modes needed to get good result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ne can experimentally measure only some of these types of mode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ree mod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Mass loaded mod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xed interface modes (if the system is very flexibl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60800" y="3397320"/>
            <a:ext cx="3710160" cy="280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51480" y="1160640"/>
            <a:ext cx="2882880" cy="186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07F-A006-4E34-B643-2FC13C4012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pplications of Ritz Metho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32920" y="1142640"/>
            <a:ext cx="8642520" cy="55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can you do with the Ritz method and experimentally measured modes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ust about anything you could do if you had approximate mass, stiffness and damping matrices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edict the effect of modifications to a structu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.e. point mass, springs, dashpo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uld be used to correct experimentally measured modes for support (bungee) stiffnes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oin substructures and predict the modes and/or response of the master structu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mbine component tests with FEA models for a master structur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dd nonlinear forces between points and/or modes and simulate the respons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FF0-EA87-4AA4-B7CF-B9C1B4BDD6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uctural Modification:  Ritz Metho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864252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iven a set of modal parameters, one has the following equations of motion for a structu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ere {y} is a vector of physical coordinates, {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} are modal coordinates, [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] is a diagonal matrix of natural frequencies squared and [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] is a matrix of mode vecto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ample:  Equation of motion for a mass at point ‘p’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421000" y="2028960"/>
            <a:ext cx="3965400" cy="833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591000" y="4678200"/>
            <a:ext cx="1522440" cy="308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120680" y="5403960"/>
            <a:ext cx="6642360" cy="77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284-0731-4FCE-8154-61229D68B3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uctural Modification: Ritz Method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32920" y="1770120"/>
            <a:ext cx="86425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traint equation to connect mass to structur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ut, y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is known if {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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s know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liminate y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to find unconstrained EOM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67200" y="4633920"/>
            <a:ext cx="2614680" cy="2224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20840" y="5519880"/>
            <a:ext cx="3995640" cy="365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93800" y="960480"/>
            <a:ext cx="6745320" cy="774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924200" y="3573360"/>
            <a:ext cx="4678200" cy="584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2386080" y="2376360"/>
            <a:ext cx="4359240" cy="5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FA7-012A-4213-B3A8-CFB0B44444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uctural Modification: Ritz Method (3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2920" y="1142640"/>
            <a:ext cx="8642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ll of this can be easily implemented in a func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itzsmod.m” on the 860Modal page does just thi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5602" t="14261" r="27284" b="56197"/>
          <a:stretch/>
        </p:blipFill>
        <p:spPr>
          <a:xfrm>
            <a:off x="369720" y="2406600"/>
            <a:ext cx="8193240" cy="357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F15-FFA5-42B8-96CD-147225DAB0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06480" y="75960"/>
            <a:ext cx="70646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uctural Modification: Sensitivity Metho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32920" y="1143000"/>
            <a:ext cx="864252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rivative based sensitivity analysis is often used to estimate the effect of modifications to a structure. (Ewins 2000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r a mass addition at a single point this reduces to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is has also been used to scale mode shapes derived from Natural Excitation Modal Analys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Ritz method with 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single mod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gives the following, which reduces to the sensitivity results for small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(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Times New Roman"/>
              </a:rPr>
              <a:t>rk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3440" y="2473200"/>
            <a:ext cx="8504280" cy="584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000240" y="3541680"/>
            <a:ext cx="2882880" cy="53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228760" y="5977080"/>
            <a:ext cx="6666120" cy="65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9AD-7140-4F3B-A395-18C423AC9A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9:37:28Z</dcterms:created>
  <dc:creator>Matt</dc:creator>
  <dc:description/>
  <dc:language>en-US</dc:language>
  <cp:lastModifiedBy>Matt Allen</cp:lastModifiedBy>
  <dcterms:modified xsi:type="dcterms:W3CDTF">2006-08-24T20:09:08Z</dcterms:modified>
  <cp:revision>1082</cp:revision>
  <dc:subject/>
  <dc:title>A Comparison of a Linear Least Squares Algorithm with STAR® Modal for a Square Elastic Plate</dc:title>
</cp:coreProperties>
</file>